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0187-D175-4FCE-B638-C3343426C2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417B-6BE3-4198-A5EC-3E7D9988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D43A-6E05-4249-8C6C-C3BCB7B7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CBE5-4F3A-44F5-ACD5-303E1F6350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45B8-4164-4261-BBF3-F8899F9E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1059-D847-4469-85DD-43F741BD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174B-5359-4DE5-92DE-36D9BFF6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06F1-17D1-48E5-BD15-A6941572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A3CB-B231-4C45-AB75-1CBA9DA2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C5F0-2F5C-4C26-B803-DB17A02E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5914-F9CE-4112-8B8E-0F493B70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C9712-ED7C-481C-9120-545C8290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0BDA-D250-4CA5-9A94-B7268A86C2F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三节  脱水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脱水的严重程度及临床特点：起病时间、体重下降程度、出入量、生命体征、皮肤弹性、眼窝凹陷及静脉充盈情况、有无意识障碍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病因及诱发因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患者的影响  重点评估有无血容量不足及中枢神经功能受损的表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诊断、治疗和护理经过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液不足 与液体摄入不足或丢失过多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8179" r="0" b="9089"/>
          <a:stretch/>
        </p:blipFill>
        <p:spPr>
          <a:xfrm>
            <a:off x="3060720" y="4510080"/>
            <a:ext cx="2589120" cy="188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基本概念；高渗性、低渗性和等渗性脱水的判断标准和临床主要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人体体液调节机制；说出引起脱水的常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脱水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指体液丢失致使体液容量不足、细胞外液明显减少而引起的一组临床症候群，严重时会导致虚脱，甚至危及生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血钠浓度和血浆胶体渗透压的不同将脱水分为高渗性脱水、低渗性脱水和等渗性脱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 “原发性缺水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失水多于失钠，血清钠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50mmol/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见于水摄入不足、水丢失过多：包括经胃肠道失水过多、经呼吸道和皮肤失水过多、经肾失水过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同时缺失，失钠多于失水，血清钠浓度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低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肾失水失钠过多，如长期使用排钠利尿剂；高渗或等渗失水治疗过程中只注重补水而忽视补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成比例丢失，血清钠浓度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45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保持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等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消化液的急性丧失，如急性腹泻、剧烈呕吐，肠瘘等；大面积烧伤；反复大量放胸腔或腹腔积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227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：根据体重下降分为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endParaRPr b="1" lang="en-US" sz="3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917720"/>
          <a:ext cx="8280360" cy="4603680"/>
        </p:xfrm>
        <a:graphic>
          <a:graphicData uri="http://schemas.openxmlformats.org/drawingml/2006/table">
            <a:tbl>
              <a:tblPr/>
              <a:tblGrid>
                <a:gridCol w="1041480"/>
                <a:gridCol w="1485720"/>
                <a:gridCol w="5753160"/>
              </a:tblGrid>
              <a:tr h="117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分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体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临床表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轻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口渴、乏力、皮肤黏膜干燥、直立性低血压、尿量减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中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皮肤弹性下降、眼窝深陷、心悸、血压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重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＞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循环衰竭和中枢功能受损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: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少尿、血压↓、谵妄、嗜睡、昏迷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即有低钠血症表现如手足麻木、恶心、呕吐等，尿比重降低；血容量明显不足，出现脉搏细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度低钠血症可导致脑细胞水肿而出现意识障碍；皮肤弹性明显下降、黏膜干燥、眼窝深陷等脱水貌较为明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或轻症者无明显口渴感，血容量不足的临床表现出现较早；细胞外液容量严重减少时，可出现血压下降、现脉搏细速、肢端湿冷、休克甚至肾衰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0" t="0" r="-344" b="5704"/>
          <a:stretch/>
        </p:blipFill>
        <p:spPr>
          <a:xfrm>
            <a:off x="3924360" y="4437000"/>
            <a:ext cx="2103480" cy="1976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34:31Z</dcterms:modified>
  <cp:revision>77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